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102D-425B-4F69-81BB-17A544B57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A57E-74AF-44A3-8D89-5CC1B12B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01B2F7-847C-4A18-AE37-62AC3E1A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55043B-2F40-4A09-A33D-50A65347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8D7E3F-9516-4B44-A77A-5920EB74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CCDC19-4487-4540-A649-60591F76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058CBD-8B76-481E-BAAB-D29E8349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57213B-D692-4831-8E83-60481252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0C6FE1-29BE-47B5-A6B4-EFA7D4E2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4C42A9-DF9D-4D9E-9649-5C51336AC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34AB04-C8D7-448E-AA11-4B2AF552E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46ABFF-2A16-4CE1-A484-E3C158BE8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8DB4-CB35-41BF-A9B7-4165B56EC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B3AD41-3E92-43EA-84E3-A27E3564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34E6C5-93F1-4018-B1B6-1214E1BD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7F2120-AFBF-4E6A-91B3-49B87E68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0C2116-CEDC-47EC-A1BB-1F2B08B1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7339C4-A1B6-4615-BAD5-5CEA0582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C52001-50A4-4A63-8CF4-D1EC1F20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D95046-6BB5-43B6-8F71-91290347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1310C8-EEFB-4293-AFD9-7B3D21CC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F82F86-DD2C-4526-86A8-FA9FB800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B8780E-457D-46D6-ADA0-F3C2CD3BB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B773-B7F8-46C8-ACF1-0C65CB8D6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B944B7-D34E-4BB5-9D56-05676FC3D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E2145C8-C62B-4D88-BAC1-B28355B62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D540AE9-564A-4104-A3B9-ACB970C8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34D7974-E86A-44AC-846D-4EFAE937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AD6F237-B058-4745-9535-2FCF26DF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831D0A8-06C1-4685-9729-7C5C4709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312EB2D-803B-4AE4-9EC9-86079F95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898F9CC-77E9-4782-9ECE-7916A077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B1A80F1-8CCF-4057-9BB5-36D9AEF7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D4EDCB3-4D0F-43C9-ACA2-7F2B2FF7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54A1EAB-D634-43E1-A298-B0892624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0ACE710-1F99-431E-942E-BA56BEC5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F41F380-4D2A-48FA-8EE0-E6123F7CD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628ADF-A1CE-44BD-A266-CA71F0834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5F8279-8E51-413E-B3A1-F530D5E9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0B2049-0F64-4F99-806C-C4411F40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1D09A2-795F-41F0-9B60-A8DD30DB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C12D4E-2A15-4D14-AB9C-12C755DC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3C6C4F-ED16-4A17-85A1-373515FC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211402-07F4-436E-A02C-A4443C4A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C572DE-A8A0-4F9C-B873-52F295CD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3D8217-94D7-4D13-B42C-3973ECB5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EC141D-B734-4756-B7CC-CE9BDC4E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44D774-71F6-4946-87DE-596CA4018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B4B064-D9DD-4B38-B7B2-1903C4749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2530D9A-A7CB-4BA7-89F0-B9A92E059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BA27EFD-1F60-49E9-8964-0965673E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91F19DD-A677-4F13-9D45-5EC62A1B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AF6B8BD-70CC-4D7F-BF44-B911B4D5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D275597-C7CB-4D6F-A4FD-C2827636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45C1641-B012-4DC7-B671-54734929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6614A15-971C-4EF6-B15D-3CF5FB29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1E3944E-824E-4B91-94FE-590B2868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AC834AC-13F8-4EE0-ACD0-EFBA1823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07956D0-E560-4BBE-BC2C-3CDA1849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AEFEBC8-D3BA-45C9-86A2-80596149C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82B5ADD-11E2-4016-B24B-1C3E792BC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F639E7-7526-43F9-85D6-DDA074B8D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CAD47D-FBBE-4CA0-8349-F68C3D09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0B4A82-2C82-474F-B840-29F0927C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28A5F2-8D53-4877-9F07-D12801E6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8C5796-6EE5-401A-B213-ECABF1F5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AFB2C5-C701-4B00-BE46-8CA6DE16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7D078C-4E28-49AF-9A63-134468ED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404EFD-4682-44B5-9F7C-FF8FD512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0908DE-D647-4661-B7F8-B5A9AD80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2951BE-3CB3-46E9-9BAF-F0EC45D1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A8BE6C-E73A-4418-8BF8-BC4171631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29E081-93AE-4CFA-99DA-D086069B2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515B3F-3526-4C17-A64B-DE0216631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695BBA-0459-4834-86BD-87763CAD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461E88-C324-4223-845E-6D69538B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7DEB6C-7751-42F7-9C2D-82EE0F82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903309-2F08-45B6-A212-F91DB7AD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8A8BD0-52AA-4C2E-A958-50C08275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5EF159-80B0-4755-8ECD-5CFFC083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B85190-43E3-4F23-A782-5246EC06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DDC485-E7AC-4D50-9724-B7337A47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387124-E262-43E8-A19A-B6A1DFAC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A53EDC-D83F-41EA-AEED-DA68ADE62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00C9D2-0A72-4224-BC29-51FB19CE1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EC526B-E685-462E-8403-8F41A2063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22AC45-23B8-47D2-AB36-1CF9AD4B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191410-1925-4BFD-9A09-8C0F22AE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282E5E-4628-43F8-ABDC-BF0A3FCD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1E3886-2964-4CCF-94D0-ED6C364A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EFD1E2-7A39-4658-88C7-D26BABC7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F0184A-B711-496E-8D85-9A1D8303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F297-4FDD-4295-8D85-08524EC3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987D45-29CA-412A-9776-30345F23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EDD0E9-39DC-4745-BA53-E42B0A1B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87F43E-3BA5-43EC-A66B-FCC4678F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2FBD4A-15C7-465B-965A-6D402BD33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81399A-9A1F-42CD-9CDD-AEFCF9A5C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28F5AB-3BFD-457E-9183-51DC0C704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7EA0A8-27E2-4771-B144-E87A01E9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A1EC27-5D09-48ED-A34F-2AF961E7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DCECB3-5CA0-4F5C-9086-AACD5029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A67BF5-C20B-4FA4-9DBE-30FBDC74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03C4C4-D7A8-4140-AB34-84E6AC46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3629DC-25DE-44A1-9A5E-A4C15343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59591E-4E88-46F7-8873-3611F450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6049B7-6109-4D42-AD6E-8541823E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AD56D5-D074-4BDD-8AE7-6D5B12F1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8788A7-CA78-4AC5-8822-699C82559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841399-A082-4738-82C0-F85C2E372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88909F-7829-4A46-8F66-5317C9BD6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358C36-C950-4173-92A9-17FE0408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0801C3-2ECE-424C-9188-3A46894C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4CC4F6-8AD1-4BE6-AA69-8345C29B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0103A1-5419-4290-8DB5-7A5B489D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67F3AB-9CD6-4D40-8309-9B8AE936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863E2A-322C-4313-9955-E4659F86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008863-454C-4D40-BB29-A766904A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C7EE73-E9BD-439F-8EE8-BD3D6D0E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EE754C-A157-4169-B2DF-95832E88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99C14C-1000-49D8-BC79-8856F7E91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0F0BAB-278A-48BF-8498-28B74A4A5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38E4F4-A488-4402-BC20-541A90EC6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9A4E9E-9AFF-4912-8A4C-FD52A04B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4C3CB1-AC2A-4D82-8E39-D804557B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ADC8A2-3D71-4741-9500-69F71988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3051DE-905B-4793-8F3A-0F6AC139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212649-6913-4CFD-A7BE-68E0FAA3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8118B5-C57E-44F2-8419-E8E8364A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D6ABCA-35C2-4AA6-9649-C7C40AC0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23D8C5-FF37-4953-A8CB-FF9C21AD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2CFEDC-3875-4797-9B46-5FA46F3B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319C40-0612-4497-9584-401395F6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F3AE93-6606-45B9-B88B-CADE96201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40C113-C28C-4AB2-84B3-394259B0A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0AD5D2-EE85-4405-95A5-CAAEF37D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B37E60-43B8-4F95-A3B4-1282354F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A2CE2A-D26E-4CB9-A3D8-16F09067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DE4FEC-7594-4F1A-8BEC-F980D168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789778-8D68-43E6-90FD-B42F39BC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788562-0CC0-4854-8374-DF142F74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9FAA10-9E57-4336-9ED9-6DEE2B04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CAE761-0B51-44B7-B5D5-F8789F23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66E576-DDF3-40AD-9B65-E0A05CF62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9C8567-02F7-4B24-AA05-0E9E2DDC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1AEBE4-60A7-45D7-9DC9-FC2DD4F47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43EBB1-5471-4AFD-8DC3-39F95F71C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AD2304-A292-4E7F-B236-5B871CE8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7FB0A8-86A5-4ED7-8198-7F185F21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C070BF-6E68-4955-9F7C-4FABDA5C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A7AB5B-FE97-4314-ABAE-0375AB12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E5DB-C2AD-48DB-9356-7CBA391F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7471C1-E453-4ACF-8B72-9C85ABC8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50C0D6-2A2C-4F71-ABF8-5A0D29E8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93D4F1-F08F-4B1E-8546-B0399A7A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1FED58-320E-42E1-B174-6EC51A69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F36731-40C0-4BB0-955A-4D9D1013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21A688-CF6B-4A75-B4C1-2FEDDBEE2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526F30-E398-4847-99AB-37086C2D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DD284D-1076-4AD4-B107-66655D57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5A4E88-5F4A-4CEC-9B88-F7744D00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D97CEB-D4F1-4A22-9AE4-061CF01A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7821-5F0B-42ED-ADBA-145660AB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FEDF22-404C-47AB-BF88-F8D21E2A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062F02-9F38-4B2D-A082-B6F9791E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02F783-508B-4689-A322-D16F5BED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1CD56A-724E-4204-9357-91B97CAD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CEADC3-0773-4182-A915-C0DB1F54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54FC0E-3AC5-49A4-8271-C7ED88B9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9828B0-296E-4A8B-8484-9D15E763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A3F3BD-0352-4386-8CD9-570FFA8A2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910625-74CB-4203-8FD4-A60CC8DA1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2C25-F290-4B27-AD3B-377239B1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6B46-9649-4613-82FA-E85CC027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4E0799-E7C1-4866-AD86-F9A375A70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CFA31D-1D05-445F-BDE7-A5679D2A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A974C6-E140-43EF-935C-0C74877F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A33B07-1AC8-4F43-810F-80284D5C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2DB877-203B-4405-99FD-ECD47B8E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B33276-E8CE-45E0-A134-2A607E08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41B708-ACC2-448A-9F88-1A46ACEF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DEA408-2053-473A-BCF5-59470185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FD2673-B6E6-4AF7-8221-8B0B2309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46AF-EFDC-4B82-B8B1-64A5C116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3C262F-792A-49C1-A08E-B2EFBE96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CA9E7B-8A97-4335-8AEC-41795E366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28D640-F8C0-4922-84DE-71754DF95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1B45B1-070B-4929-BCB5-DE9CC04E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4C3873-2E0C-41D5-A70A-A1DCAF66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EE3AC8-E206-45CA-9740-A3A4FBEE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4D5B9C-4482-4645-A2A9-4648D83E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D52A28-9F04-4995-9C19-16462437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B30732-E0AD-461C-B9BF-DA610C87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C391E4-F852-4476-A77B-54D44E92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CD20-343D-4F55-AC5E-91F05E3F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B2E281-F50C-4848-8547-2BA494CE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0602BC-45FA-47A7-9677-B2BEA65D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226051-21DA-487A-A57C-52885B89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F0E754-5514-479E-B5EC-D07B4FB0C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6FD5E5-4F01-4259-A1EE-048D647D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CEBDA1-6A61-4D06-B715-54E626713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01FEA7-21BC-4507-A5E2-22D0C1B2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564361-0290-4857-85CA-B79D20F9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DCBA94-1916-4522-B81C-2BF78788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81776B-E6DA-42BB-9098-ED6CDF89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81D8-6379-455E-B6CF-A6375617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980278-3B41-4881-9F59-935A4F44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7EC1F7-2644-4D9B-9AAF-03D3D0CD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03B88A-9025-474F-AB05-1449FC01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A07588-4FA8-4C39-B637-2AAA4C34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EE0733-26E0-4F06-B81B-CC981C89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02138D-BD46-4159-BDC5-3A9392F13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B37C59-6ACF-4592-AF7C-D50B20107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E9762E-0820-42BB-B798-97A58086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B1AF0A-FDBA-4F4F-9ADA-010B0E0C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141706-A549-4B29-ACED-7739677B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DDA150-B0BE-45B1-B8C0-750560DA4DE7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D7080C-8C7D-461B-9D5B-5D9302C4AB8C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CBB18D-B667-4BD1-BE2B-71334DB601D1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9060F9-257E-4405-A007-25A3EC6F287F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94C847-9FEE-4394-B989-1165D6698740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F5BCB7-9C2E-4996-8AAB-B0A54ED765D2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2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058D0B-85B5-4929-8BE8-EDD063092522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3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A861B5-022A-4B78-9196-A708D5933357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669377-8CD6-4B77-8F19-FA890BC41146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50FEA2-AB50-4CAE-97E5-DDCF2AEEED01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6"/>
          <p:cNvSpPr/>
          <p:nvPr/>
        </p:nvSpPr>
        <p:spPr>
          <a:xfrm>
            <a:off x="282600" y="228600"/>
            <a:ext cx="345132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8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738610-5A9A-4385-8553-4E09A8AA1260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9"/>
          </p:nvPr>
        </p:nvSpPr>
        <p:spPr>
          <a:xfrm>
            <a:off x="3859200" y="6423120"/>
            <a:ext cx="331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398952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0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AB1E2E-C9A6-452F-97F5-BDBCCB384DB2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1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67BD12-AE8B-4B2E-8054-330369B42143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6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8"/>
          <p:cNvSpPr/>
          <p:nvPr/>
        </p:nvSpPr>
        <p:spPr>
          <a:xfrm>
            <a:off x="326880" y="463248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6A9AA1-6CC4-44A6-8101-35F5F7512765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BDFCE6-9211-46F2-8105-3FB72032A33F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6"/>
          <p:cNvSpPr/>
          <p:nvPr/>
        </p:nvSpPr>
        <p:spPr>
          <a:xfrm>
            <a:off x="282600" y="228600"/>
            <a:ext cx="6386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5211720" y="6235200"/>
            <a:ext cx="13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3A3C22-09A6-42FE-B18A-548AECF49CA2}" type="datetime">
              <a:rPr b="0" lang="en-US" sz="1100" spc="-1" strike="noStrike">
                <a:solidFill>
                  <a:srgbClr val="ffffff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80880" y="6235200"/>
            <a:ext cx="4648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6BAFAA-B75E-4ADE-A7A8-2B500F6B3AE6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6"/>
          <p:cNvSpPr/>
          <p:nvPr/>
        </p:nvSpPr>
        <p:spPr>
          <a:xfrm>
            <a:off x="282600" y="228600"/>
            <a:ext cx="4235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9"/>
          <p:cNvSpPr/>
          <p:nvPr/>
        </p:nvSpPr>
        <p:spPr>
          <a:xfrm>
            <a:off x="4624560" y="453564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9"/>
          </p:nvPr>
        </p:nvSpPr>
        <p:spPr>
          <a:xfrm>
            <a:off x="3048120" y="6235200"/>
            <a:ext cx="1347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5E554A-590B-4051-84EA-3CEF5DE9DE80}" type="datetime">
              <a:rPr b="0" lang="en-US" sz="1100" spc="-1" strike="noStrike">
                <a:solidFill>
                  <a:srgbClr val="ffffff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0"/>
          </p:nvPr>
        </p:nvSpPr>
        <p:spPr>
          <a:xfrm>
            <a:off x="380520" y="6235200"/>
            <a:ext cx="259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056C38-32D1-419D-ADCB-C9AD65DFCD15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7"/>
          <p:cNvSpPr/>
          <p:nvPr/>
        </p:nvSpPr>
        <p:spPr>
          <a:xfrm>
            <a:off x="474984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2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1FDBD9-F1D4-4DD8-8465-5F59C7643EF6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3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DA0208-218B-4D7B-B047-6F00E8F8DA71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624560" y="228600"/>
            <a:ext cx="2057400" cy="2038320"/>
          </a:xfrm>
          <a:prstGeom prst="rect">
            <a:avLst/>
          </a:prstGeom>
          <a:solidFill>
            <a:srgbClr val="a3a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330f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BE69EF-F255-4DAA-87F5-7A52EE9CB8E3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5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3B783C-7017-44AC-9C8A-CB0534DE7B3D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3E0F6D-735B-48D4-A604-051F5D2251A4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7"/>
          <p:cNvSpPr/>
          <p:nvPr/>
        </p:nvSpPr>
        <p:spPr>
          <a:xfrm rot="16200000">
            <a:off x="8591400" y="5634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8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74F6F0-77F9-49FA-93A8-00BF64429B86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9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60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CD8570-3EF5-4913-9480-13F07D8AC5F6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66B25F-8A0B-4EA1-8168-9826E4C4D7FC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5584D6-BAC0-4BD8-8123-2DBB2223F652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47A89D-810F-4B40-ABA8-F51110264D10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DA53AB-F300-4A3F-B46D-82A8DDAA7028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2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C90605-7578-478B-9EDA-AED94A81C3A7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3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658800" y="228600"/>
            <a:ext cx="820116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2003400" y="3111480"/>
            <a:ext cx="260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4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532772-3CDC-476D-AFD3-5EC5C7E4FEAA}" type="datetime">
              <a:rPr b="0" lang="en-US" sz="1100" spc="-1" strike="noStrike">
                <a:solidFill>
                  <a:srgbClr val="ffffff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5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6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973E4F-3E1A-4E7E-98DD-3D367E416249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EEB6CF-F81F-4FCC-8A3E-0F9DC4E0342C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9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5CFAA3-E264-4830-9FC2-9DBB3A536D29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87E0D3-A6DA-43C8-9E45-31A82171FED0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0F8B81-A2A1-4BAB-BD80-983C5AAA802F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6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9AAB64-0BE9-4EB7-86EA-DF646613B89F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96E9F4-4D98-4F9B-83A5-D159BEA5717B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800600" y="4624560"/>
            <a:ext cx="4038480" cy="93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63366"/>
                </a:solidFill>
                <a:latin typeface="Rockwell"/>
              </a:rPr>
              <a:t>Compliance Monitoring Results</a:t>
            </a:r>
            <a:endParaRPr b="0" lang="en-US" sz="25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800600" y="5562360"/>
            <a:ext cx="403848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Rockwell"/>
              </a:rPr>
              <a:t>Octorara School District</a:t>
            </a:r>
            <a:endParaRPr b="0" lang="en-US" sz="1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Rockwell"/>
              </a:rPr>
              <a:t>2009</a:t>
            </a:r>
            <a:endParaRPr b="0" lang="en-US" sz="1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orrective Action Process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60 days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Improvement plan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Summary of findings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49860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More individualized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PD- sign in sheets, agendas, etc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Timeline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Accurate documentation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GIEP and other form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9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PLEP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9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Academic need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9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STLO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9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Assessment- above grade level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440064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Progress monitoring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Identification of giftedness within curriculum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Acceleration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Enrichment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DI training for staff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Pull out program – incorrect model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Gifted Education Facilitated Self Assessment (GE-FSA)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o be completed 30 days prior to visi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LEA is to establish a team to complet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opics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Strategic Plans and Policy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Personnel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Special Education/Dual exceptionalitie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Screening and Evaluation Proces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Gifted Education Placement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Procedural Safeguard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Student Record Review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Strategic Plans and Policy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49860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Procedures for education of all gifted students enrolled in SD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Regulatory requirements – sec 16.4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Process for identification of gifted in need of SDI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Support and implementation of plan (16.4)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Description of program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440064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Procedure of tracking of report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Student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Personnel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Program elements including cost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Procedure for providing info to PDE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98600" y="134640"/>
            <a:ext cx="75564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Personnel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Inservice training plan and documentation of attendance at trainings- sign-in sheets, agendas, hand-outs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Regular ed teacher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Principal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Administrator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Support staff 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ertification of teachers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98240" y="1130400"/>
            <a:ext cx="7559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Rockwell"/>
            </a:endParaRPr>
          </a:p>
        </p:txBody>
      </p:sp>
      <p:grpSp>
        <p:nvGrpSpPr>
          <p:cNvPr id="920" name="Rectangle 7"/>
          <p:cNvGrpSpPr/>
          <p:nvPr/>
        </p:nvGrpSpPr>
        <p:grpSpPr>
          <a:xfrm>
            <a:off x="6827760" y="5205240"/>
            <a:ext cx="615960" cy="555840"/>
            <a:chOff x="6827760" y="5205240"/>
            <a:chExt cx="615960" cy="555840"/>
          </a:xfrm>
        </p:grpSpPr>
        <p:pic>
          <p:nvPicPr>
            <p:cNvPr id="921" name="Rectangle 7" descr=""/>
            <p:cNvPicPr/>
            <p:nvPr/>
          </p:nvPicPr>
          <p:blipFill>
            <a:blip r:embed="rId1"/>
            <a:stretch/>
          </p:blipFill>
          <p:spPr>
            <a:xfrm>
              <a:off x="6827760" y="5205240"/>
              <a:ext cx="61596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2" name=""/>
            <p:cNvSpPr/>
            <p:nvPr/>
          </p:nvSpPr>
          <p:spPr>
            <a:xfrm>
              <a:off x="6905520" y="5257800"/>
              <a:ext cx="4557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317520" y="134640"/>
            <a:ext cx="7996320" cy="13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Special Education/Dual Exceptionalities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hapter 14 precedenc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parate screenings, IEP’s not necessary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ngle plan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Written procedure for referring students from gifted ed to special ed and vice versa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98240" y="1130400"/>
            <a:ext cx="7559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Rockwell"/>
            </a:endParaRPr>
          </a:p>
        </p:txBody>
      </p:sp>
      <p:grpSp>
        <p:nvGrpSpPr>
          <p:cNvPr id="926" name="Rectangle 4"/>
          <p:cNvGrpSpPr/>
          <p:nvPr/>
        </p:nvGrpSpPr>
        <p:grpSpPr>
          <a:xfrm>
            <a:off x="6827760" y="5205240"/>
            <a:ext cx="615960" cy="555840"/>
            <a:chOff x="6827760" y="5205240"/>
            <a:chExt cx="615960" cy="555840"/>
          </a:xfrm>
        </p:grpSpPr>
        <p:pic>
          <p:nvPicPr>
            <p:cNvPr id="927" name="Rectangle 4" descr=""/>
            <p:cNvPicPr/>
            <p:nvPr/>
          </p:nvPicPr>
          <p:blipFill>
            <a:blip r:embed="rId1"/>
            <a:stretch/>
          </p:blipFill>
          <p:spPr>
            <a:xfrm>
              <a:off x="6827760" y="5205240"/>
              <a:ext cx="61596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8" name=""/>
            <p:cNvSpPr/>
            <p:nvPr/>
          </p:nvSpPr>
          <p:spPr>
            <a:xfrm>
              <a:off x="6905520" y="5257800"/>
              <a:ext cx="4557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Screening and Evaluation Process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49860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Identification system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Awareness activitie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Screening proces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School psychologist role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Multiple criteria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Free of bia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Notice and consent requirement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440064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Form for parent request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GMDT team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Comprehensive GMDE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GMDT report in written form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Timeline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  <p:grpSp>
        <p:nvGrpSpPr>
          <p:cNvPr id="932" name="Rectangle 7"/>
          <p:cNvGrpSpPr/>
          <p:nvPr/>
        </p:nvGrpSpPr>
        <p:grpSpPr>
          <a:xfrm>
            <a:off x="6827760" y="5205240"/>
            <a:ext cx="615960" cy="555840"/>
            <a:chOff x="6827760" y="5205240"/>
            <a:chExt cx="615960" cy="555840"/>
          </a:xfrm>
        </p:grpSpPr>
        <p:pic>
          <p:nvPicPr>
            <p:cNvPr id="933" name="Rectangle 7" descr=""/>
            <p:cNvPicPr/>
            <p:nvPr/>
          </p:nvPicPr>
          <p:blipFill>
            <a:blip r:embed="rId1"/>
            <a:stretch/>
          </p:blipFill>
          <p:spPr>
            <a:xfrm>
              <a:off x="6827760" y="5205240"/>
              <a:ext cx="61596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4" name=""/>
            <p:cNvSpPr/>
            <p:nvPr/>
          </p:nvSpPr>
          <p:spPr>
            <a:xfrm>
              <a:off x="6905520" y="5257800"/>
              <a:ext cx="4557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Gifted Education Placemen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Rockwell"/>
              </a:rPr>
              <a:t>Decisions based on need and abilities</a:t>
            </a:r>
            <a:endParaRPr b="0" lang="en-US" sz="14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8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Rockwell"/>
              </a:rPr>
              <a:t>Progress monitoring</a:t>
            </a:r>
            <a:endParaRPr b="0" lang="en-US" sz="13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8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Rockwell"/>
              </a:rPr>
              <a:t>Acceleration/Enrichment activities</a:t>
            </a:r>
            <a:endParaRPr b="0" lang="en-US" sz="13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Rockwell"/>
              </a:rPr>
              <a:t>Board policies for caseload and class size</a:t>
            </a:r>
            <a:endParaRPr b="0" lang="en-US" sz="14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8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Rockwell"/>
              </a:rPr>
              <a:t>Waiver </a:t>
            </a:r>
            <a:endParaRPr b="0" lang="en-US" sz="13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8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Rockwell"/>
              </a:rPr>
              <a:t>Assigned staff responsibilities</a:t>
            </a:r>
            <a:endParaRPr b="0" lang="en-US" sz="13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Rockwell"/>
              </a:rPr>
              <a:t>Basis of placement</a:t>
            </a:r>
            <a:endParaRPr b="0" lang="en-US" sz="14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8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Rockwell"/>
              </a:rPr>
              <a:t>Alternatives</a:t>
            </a:r>
            <a:endParaRPr b="0" lang="en-US" sz="13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8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Rockwell"/>
              </a:rPr>
              <a:t>Educational or support services</a:t>
            </a:r>
            <a:endParaRPr b="0" lang="en-US" sz="13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8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Rockwell"/>
              </a:rPr>
              <a:t>Qualified staff</a:t>
            </a:r>
            <a:endParaRPr b="0" lang="en-US" sz="13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8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Rockwell"/>
              </a:rPr>
              <a:t>Space or facilities</a:t>
            </a:r>
            <a:endParaRPr b="0" lang="en-US" sz="13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8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Rockwell"/>
              </a:rPr>
              <a:t>Administrative convenience</a:t>
            </a:r>
            <a:endParaRPr b="0" lang="en-US" sz="13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Rockwell"/>
              </a:rPr>
              <a:t>Private schools</a:t>
            </a:r>
            <a:endParaRPr b="0" lang="en-US" sz="1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Rockwell"/>
              </a:rPr>
              <a:t>Homeschooling</a:t>
            </a:r>
            <a:endParaRPr b="0" lang="en-US" sz="14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Rockwell"/>
            </a:endParaRPr>
          </a:p>
        </p:txBody>
      </p:sp>
      <p:grpSp>
        <p:nvGrpSpPr>
          <p:cNvPr id="937" name="Rectangle 3"/>
          <p:cNvGrpSpPr/>
          <p:nvPr/>
        </p:nvGrpSpPr>
        <p:grpSpPr>
          <a:xfrm>
            <a:off x="6827760" y="5205240"/>
            <a:ext cx="615960" cy="555840"/>
            <a:chOff x="6827760" y="5205240"/>
            <a:chExt cx="615960" cy="555840"/>
          </a:xfrm>
        </p:grpSpPr>
        <p:pic>
          <p:nvPicPr>
            <p:cNvPr id="938" name="Rectangle 3" descr=""/>
            <p:cNvPicPr/>
            <p:nvPr/>
          </p:nvPicPr>
          <p:blipFill>
            <a:blip r:embed="rId1"/>
            <a:stretch/>
          </p:blipFill>
          <p:spPr>
            <a:xfrm>
              <a:off x="6827760" y="5205240"/>
              <a:ext cx="61596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9" name=""/>
            <p:cNvSpPr/>
            <p:nvPr/>
          </p:nvSpPr>
          <p:spPr>
            <a:xfrm>
              <a:off x="6905520" y="5257800"/>
              <a:ext cx="4557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Gifted Education Procedural Safeguards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49860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95959"/>
                </a:solidFill>
                <a:latin typeface="Rockwell"/>
              </a:rPr>
              <a:t>Availability of policy and procedures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lvl="1" marL="447840" indent="-223920">
              <a:lnSpc>
                <a:spcPct val="8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95959"/>
                </a:solidFill>
                <a:latin typeface="Rockwell"/>
              </a:rPr>
              <a:t>Students moving into district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lvl="1" marL="447840" indent="-223920">
              <a:lnSpc>
                <a:spcPct val="8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95959"/>
                </a:solidFill>
                <a:latin typeface="Rockwell"/>
              </a:rPr>
              <a:t>Notice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lvl="1" marL="447840" indent="-223920">
              <a:lnSpc>
                <a:spcPct val="8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95959"/>
                </a:solidFill>
                <a:latin typeface="Rockwell"/>
              </a:rPr>
              <a:t>Consent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lvl="1" marL="447840" indent="-223920">
              <a:lnSpc>
                <a:spcPct val="8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95959"/>
                </a:solidFill>
                <a:latin typeface="Rockwell"/>
              </a:rPr>
              <a:t>Impartial due process hearing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lvl="1" marL="447840" indent="-223920">
              <a:lnSpc>
                <a:spcPct val="8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95959"/>
                </a:solidFill>
                <a:latin typeface="Rockwell"/>
              </a:rPr>
              <a:t>Mediation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lvl="1" marL="447840" indent="-223920">
              <a:lnSpc>
                <a:spcPct val="8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95959"/>
                </a:solidFill>
                <a:latin typeface="Rockwell"/>
              </a:rPr>
              <a:t>Confidentiality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lvl="1" marL="447840" indent="-223920">
              <a:lnSpc>
                <a:spcPct val="8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95959"/>
                </a:solidFill>
                <a:latin typeface="Rockwell"/>
              </a:rPr>
              <a:t>Language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lvl="1" marL="447840" indent="-223920">
              <a:lnSpc>
                <a:spcPct val="8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95959"/>
                </a:solidFill>
                <a:latin typeface="Rockwell"/>
              </a:rPr>
              <a:t>Dispute resolution at building/LEA level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lvl="1" marL="447840" indent="-223920">
              <a:lnSpc>
                <a:spcPct val="8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95959"/>
                </a:solidFill>
                <a:latin typeface="Rockwell"/>
              </a:rPr>
              <a:t>Implementation of decisions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lvl="1" marL="447840" indent="-223920">
              <a:lnSpc>
                <a:spcPct val="8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95959"/>
                </a:solidFill>
                <a:latin typeface="Rockwell"/>
              </a:rPr>
              <a:t>Patterns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lvl="1" marL="447840" indent="-223920">
              <a:lnSpc>
                <a:spcPct val="8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95959"/>
                </a:solidFill>
                <a:latin typeface="Rockwell"/>
              </a:rPr>
              <a:t>Documentation of mailing dates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lvl="1" marL="447840" indent="-223920">
              <a:lnSpc>
                <a:spcPct val="8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lvl="1" marL="447840" indent="-223920">
              <a:lnSpc>
                <a:spcPct val="8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marL="223920" indent="-22392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40064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PDE will provide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No. of mediation request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No. of due process hearing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No. of due process hearings with parent prevailing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Student Record Review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tudent files availabl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Monitored for chapter 16 complianc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Documentation of mailing dates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grpSp>
        <p:nvGrpSpPr>
          <p:cNvPr id="945" name="Rectangle 6"/>
          <p:cNvGrpSpPr/>
          <p:nvPr/>
        </p:nvGrpSpPr>
        <p:grpSpPr>
          <a:xfrm>
            <a:off x="6827760" y="5205240"/>
            <a:ext cx="615960" cy="555840"/>
            <a:chOff x="6827760" y="5205240"/>
            <a:chExt cx="615960" cy="555840"/>
          </a:xfrm>
        </p:grpSpPr>
        <p:pic>
          <p:nvPicPr>
            <p:cNvPr id="946" name="Rectangle 6" descr=""/>
            <p:cNvPicPr/>
            <p:nvPr/>
          </p:nvPicPr>
          <p:blipFill>
            <a:blip r:embed="rId1"/>
            <a:stretch/>
          </p:blipFill>
          <p:spPr>
            <a:xfrm>
              <a:off x="6827760" y="5205240"/>
              <a:ext cx="61596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>
              <a:off x="6905520" y="5257800"/>
              <a:ext cx="4557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16:26:08Z</dcterms:created>
  <dc:creator>CCIU</dc:creator>
  <dc:description/>
  <dc:language>en-US</dc:language>
  <cp:lastModifiedBy>CCIU</cp:lastModifiedBy>
  <dcterms:modified xsi:type="dcterms:W3CDTF">2010-01-08T13:28:59Z</dcterms:modified>
  <cp:revision>13</cp:revision>
  <dc:subject/>
  <dc:title>Compliance Monitoring Results</dc:title>
</cp:coreProperties>
</file>